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16D-4D94-452C-A70E-C5F42BC9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90D-448F-412F-86DD-86BFEBE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EC3-16BC-4C6C-B985-01CF80A3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EAC-2D27-4687-96A9-AFD4F6E5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1C6-B744-4F73-AD14-193EF3B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FBC-BE05-4156-BF90-AFED25C8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5CF-6F93-4B44-91F2-EB83AB7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AC3-2673-4F3F-8218-5E019477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BBD-466E-4198-835D-D896FBFC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80B-038C-4AF0-AE9A-59CF5A0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C63-DDE7-46E1-B232-6562EA1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5FB-DF24-4680-BF61-5827B11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6F4-DB4B-4154-B22C-D5C6E9B2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1 de octubre de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22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el examen del capitulo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371680"/>
            <a:ext cx="5943600" cy="37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1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91040" y="47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50292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49960" y="480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0052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3160" y="5486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81760" y="57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084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7876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296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ompl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un partido de béisbol hay nue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tiemp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entr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pectadores van…a ver un partido de fut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a la canch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l estad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a la port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…de una base 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orr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atrap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lan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bol los jugadores lanzan el balón c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 el ba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ma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asquetbol los jugadores meten el balón 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el ce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la porter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l pla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béisbol los jugadores atrapan la pelota c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una 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un gu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un 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960" y="122400"/>
            <a:ext cx="8915400" cy="67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I- </a:t>
            </a:r>
            <a:r>
              <a:rPr b="1" lang="es-ES_tradnl" sz="2800" spc="-1" strike="noStrike" u="sng">
                <a:solidFill>
                  <a:srgbClr val="008000"/>
                </a:solidFill>
                <a:uFillTx/>
                <a:latin typeface="Arial"/>
              </a:rPr>
              <a:t>Cierto o f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f the statement is true write Cierto; if it is false write Falso and correct the bold wor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popular en los países hisp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os jugadores de béisbol son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popular en el mundo hisp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os jugadores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tb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on de San Pedro de Macorís en la Republica Domin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jugadores de futbol pueden tocar el balón con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abeza y con el pi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30:24Z</dcterms:created>
  <dc:creator>Helen Zumaeta</dc:creator>
  <dc:description/>
  <dc:language>en-US</dc:language>
  <cp:lastModifiedBy>Helen Zumaeta</cp:lastModifiedBy>
  <dcterms:modified xsi:type="dcterms:W3CDTF">2012-11-08T16:09:13Z</dcterms:modified>
  <cp:revision>6</cp:revision>
  <dc:subject/>
  <dc:title>Me llamo _________ Clase 7il la fecha es el 26 de octubre del 2012</dc:title>
</cp:coreProperties>
</file>